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2622-1428-4F4A-99D8-FA01DB68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3375-9E5D-4793-9C42-C52AAFFC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5550-FA67-44B1-9900-2BD48EAE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2E3F-5E0D-4DD4-BE57-512DF4A7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09BF-D68C-49F6-B0FD-90646562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7417-D55E-4A81-A4A9-3868B917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470F-6850-4603-8763-436E4954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F913-8302-44AE-BB97-42B74C75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7D0E-83BA-44A2-AD37-EB762B81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7552-0DCA-44BE-AAE9-5B4B7DB3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0483-7F61-42ED-86E2-CE7F46AC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4D12-E18F-4745-9808-001BEE63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C0DD-28B0-43D9-A713-AFCF8138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AA5E-34DF-4AAE-9610-D86A64E0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F1FA-DB05-40E8-8557-BD766320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926F-2C37-4E81-8BEC-2D341EE2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698C-0CDF-459E-B3B1-F37E1066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CE898-E23B-4280-B13F-17E54FED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C7973-4830-488F-8D31-B0EE40C8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88FCF-468E-4F6B-9A9D-8DA89181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C5FA5-3A3A-4CC9-B227-3AC6271C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EA895-93FF-467B-847C-187CD873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55EE-4EE1-4A93-B467-2753E3DD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D3799-3244-4DF7-9B57-A579EC6C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E6AE3-54D8-4835-AB63-65F171D7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DEF80-0A7B-4FDB-8CCE-E469BFC9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F646D-BA98-4FF1-80D7-625833E9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D745A-A652-420D-9C3D-78B4C2BE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AC06A-8C9C-4226-AF4F-E3832A54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F3F70-3E49-4D50-AC1F-FE9DF2AE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0E685-68C4-4783-A7BA-5CF5058B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9A473-FA68-4017-9DD5-D216885D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456AD-59B1-46C4-BDEE-79C7AFFB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34EF-72CE-4D90-B705-0F7B2BAB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FFDFC-FECE-4366-B05F-292527DE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EDF9A-70EB-46F8-9197-D8726AB2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B2971-A444-4A15-82F1-58E599CA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00F03-E26E-46BB-BF23-7557D65D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8624B-C62A-4C76-9498-D111F508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1B72E-1CB1-4E57-9880-5A29EF62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DE862-4425-49E5-B241-CCB1AD98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8B738-9458-45D8-AAAE-35009C88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524CC-8309-4512-8AFF-ACBD6DC5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E5317-9BA3-43D0-9670-B6BF3714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B5D3-5929-46B7-A26E-17248908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4ED0D-7004-44A4-B4EA-0484422D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13C2B-02F6-4ACC-BE56-44886362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8751C-D2DF-4B5C-8BA7-BEE4E935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F9CF7-766D-4982-9006-8F1BF77E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375E0-9ECF-46A7-8CE9-462E5CF0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832D6-545A-48F4-9BD6-A9998825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E280E-32C3-44BD-9D87-83331E9F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7E3A4-4F86-414C-B525-EB632785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9ECAD-6853-431E-9AC6-C5087A4E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2DF14-C1F3-43C9-912C-18C59A7E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275-0D60-41C5-A4A1-0052F1B5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A8949-003B-4409-8B5A-AE086B68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194EB-CA7C-4082-8306-D5B4159C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7A4E2-3E69-43DD-B071-6FAF5AD2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D71B9-F1F2-469D-8058-221CD4B0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7BA87-C1F0-4963-B85B-275571ED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673CD-E05A-44A3-83D0-81F5B4A1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70C5A-850D-4A70-A580-FCFFFB3E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A7CC3-2D9C-410A-83A8-BE5CD3C4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97AC6-E095-48C1-8BEE-4C9DBE08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FB664-76D9-4C67-A75C-AF9B7F87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4AE1-C588-4F04-BF64-97799D9C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77620-0449-4991-81C2-5566A713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501F8-CB8B-470F-AF60-66F0D0A5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19FF7-537B-4821-85CE-4638E8E8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2920-A4A2-4B44-AE81-C1608B82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3D4E-E786-4C3D-988D-E0A0EFA1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75E0-220B-4FDA-A704-9537BE1C8B7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CDC0-6D29-480C-AEC5-F06A550AFBE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1970-742D-425A-ADBB-8D8045CED68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CDA2-0486-448D-9C47-0C387437213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DA07-53C8-4F40-AE17-C2A3C839CDD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89A2-3654-40F7-B5A5-D538B300A1C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680" y="25718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cc0099"/>
                </a:solidFill>
                <a:latin typeface="Verdana"/>
              </a:rPr>
              <a:t>Введение в теорию вероятности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1"/>
          <a:srcRect l="0" t="-94" r="86476" b="82156"/>
          <a:stretch/>
        </p:blipFill>
        <p:spPr>
          <a:xfrm>
            <a:off x="468360" y="115920"/>
            <a:ext cx="2016000" cy="2006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"/>
          <p:cNvPicPr/>
          <p:nvPr/>
        </p:nvPicPr>
        <p:blipFill>
          <a:blip r:embed="rId2"/>
          <a:srcRect l="73144" t="2466" r="9552" b="82156"/>
          <a:stretch/>
        </p:blipFill>
        <p:spPr>
          <a:xfrm>
            <a:off x="6084720" y="260280"/>
            <a:ext cx="21956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            </a:t>
            </a:r>
            <a:r>
              <a:rPr b="1" lang="ru-RU" sz="3600" spc="-1" strike="noStrike">
                <a:solidFill>
                  <a:srgbClr val="9f2936"/>
                </a:solidFill>
                <a:latin typeface="Verdana"/>
              </a:rPr>
              <a:t>Пример: с бросанием куб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Verdana"/>
              </a:rPr>
              <a:t>Событие 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 выпадение на верхней грани одного из чисел – 1, 2, 3, 4, 5, 6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ществует 6 </a:t>
            </a:r>
            <a:r>
              <a:rPr b="1" i="1" lang="ru-RU" sz="2800" spc="-1" strike="noStrike">
                <a:solidFill>
                  <a:srgbClr val="cc0099"/>
                </a:solidFill>
                <a:latin typeface="Verdana"/>
              </a:rPr>
              <a:t>равновозможных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сходов этого собы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Verdana"/>
              </a:rPr>
              <a:t>Событие 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 выпадение числа очков,    кратного 3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сходит лишь при двух исходах испытания ( ?). Эти исходы называют </a:t>
            </a:r>
            <a:r>
              <a:rPr b="1" i="1" lang="ru-RU" sz="2800" spc="-1" strike="noStrike">
                <a:solidFill>
                  <a:srgbClr val="cc0099"/>
                </a:solidFill>
                <a:latin typeface="Verdana"/>
              </a:rPr>
              <a:t>благоприятным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ходами для события 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2" name="Group 4"/>
          <p:cNvGrpSpPr/>
          <p:nvPr/>
        </p:nvGrpSpPr>
        <p:grpSpPr>
          <a:xfrm>
            <a:off x="324000" y="404640"/>
            <a:ext cx="1079280" cy="1008360"/>
            <a:chOff x="324000" y="404640"/>
            <a:chExt cx="1079280" cy="1008360"/>
          </a:xfrm>
        </p:grpSpPr>
        <p:sp>
          <p:nvSpPr>
            <p:cNvPr id="303" name="AutoShape 5"/>
            <p:cNvSpPr/>
            <p:nvPr/>
          </p:nvSpPr>
          <p:spPr>
            <a:xfrm>
              <a:off x="324000" y="404640"/>
              <a:ext cx="1079280" cy="1008360"/>
            </a:xfrm>
            <a:prstGeom prst="cube">
              <a:avLst>
                <a:gd name="adj" fmla="val 25000"/>
              </a:avLst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6"/>
            <p:cNvSpPr/>
            <p:nvPr/>
          </p:nvSpPr>
          <p:spPr>
            <a:xfrm>
              <a:off x="611280" y="907920"/>
              <a:ext cx="215640" cy="21744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7"/>
            <p:cNvSpPr/>
            <p:nvPr/>
          </p:nvSpPr>
          <p:spPr>
            <a:xfrm>
              <a:off x="539640" y="476280"/>
              <a:ext cx="216000" cy="1443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8"/>
            <p:cNvSpPr/>
            <p:nvPr/>
          </p:nvSpPr>
          <p:spPr>
            <a:xfrm>
              <a:off x="900000" y="476280"/>
              <a:ext cx="142920" cy="1461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9"/>
            <p:cNvSpPr/>
            <p:nvPr/>
          </p:nvSpPr>
          <p:spPr>
            <a:xfrm>
              <a:off x="1258920" y="620640"/>
              <a:ext cx="73080" cy="1443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0"/>
            <p:cNvSpPr/>
            <p:nvPr/>
          </p:nvSpPr>
          <p:spPr>
            <a:xfrm>
              <a:off x="1187280" y="1052640"/>
              <a:ext cx="73080" cy="1443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1"/>
            <p:cNvSpPr/>
            <p:nvPr/>
          </p:nvSpPr>
          <p:spPr>
            <a:xfrm>
              <a:off x="1258920" y="836640"/>
              <a:ext cx="73080" cy="1443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Классическое определение вероятност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Verdana"/>
              </a:rPr>
              <a:t>Вероятностью события называется отношение числа благоприятных для него исходов испытания к числу всех равновозможных исход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Verdana"/>
              </a:rPr>
              <a:t>Пишут: Р(В)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3780000" y="4508640"/>
                <a:ext cx="119520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равните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атистическое определение вероят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f293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9f2936"/>
                </a:solidFill>
                <a:latin typeface="Verdana"/>
              </a:rPr>
              <a:t>Значение, около которого группируются наблюдаемые значения относительной частоты, принимается за вероятность случайного событ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Классическое определение вероят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f2936"/>
                </a:solidFill>
                <a:latin typeface="Verdana"/>
              </a:rPr>
              <a:t>Вероятностью события называется отношение числа благоприятных для него исходов испытания к числу всех равновозможных исход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Пример: игра в наперст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514080" y="529920"/>
            <a:ext cx="3932280" cy="43894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514800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Verdana"/>
              </a:rPr>
              <a:t>Какова вероятность того, что ты угадаешь, где спрятан шари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Verdana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700" spc="-1" strike="noStrike">
                <a:solidFill>
                  <a:srgbClr val="0070c0"/>
                </a:solidFill>
                <a:latin typeface="Verdana"/>
              </a:rPr>
              <a:t>    ⅓</a:t>
            </a:r>
            <a:r>
              <a:rPr b="1" i="1" lang="ru-RU" sz="6700" spc="-1" strike="noStrike">
                <a:solidFill>
                  <a:srgbClr val="0070c0"/>
                </a:solidFill>
                <a:latin typeface="Verdana"/>
              </a:rPr>
              <a:t>, …</a:t>
            </a:r>
            <a:endParaRPr b="0" lang="en-US" sz="6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2"/>
          <a:srcRect l="21853" t="33223" r="22039" b="18053"/>
          <a:stretch/>
        </p:blipFill>
        <p:spPr>
          <a:xfrm>
            <a:off x="755640" y="1628640"/>
            <a:ext cx="46641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642600" y="9288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Задача 1.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Таня забыла последнюю цифру номера телефона знакомой девочки и набрала наугад. Какова вероятность того, что Таня попала к своей знакомой?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Решение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24000" y="571320"/>
            <a:ext cx="8362800" cy="555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адача 2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характеризуйте событие, о котором идет речь, как достоверное, невозможное или случайное. Вы открыли эту книгу на любой странице и прочитали первое попавшееся существительное.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казалось, что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написании выбранного слова есть гласная бук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написании выбранного слова есть буква «О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написании выбранного слова нет гласных бук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написании выбранного слова есть мягкий зна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Ошибка Даламбер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000320" y="785520"/>
            <a:ext cx="4390920" cy="4708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600" spc="-1" strike="noStrike">
                <a:solidFill>
                  <a:srgbClr val="0070c0"/>
                </a:solidFill>
                <a:latin typeface="Verdana"/>
              </a:rPr>
              <a:t>Великий француз – Даламбер – вошел в историю теории вероятностей со своей знаменитой ошибкой, суть которой в том, что он неверно определил равновозможность исходов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Picture 9" descr="i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1989000"/>
            <a:ext cx="2862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адача Даламбер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6"/>
              <p:cNvSpPr txBox="1"/>
              <p:nvPr/>
            </p:nvSpPr>
            <p:spPr>
              <a:xfrm>
                <a:off x="2424240" y="261792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8"/>
              <p:cNvSpPr txBox="1"/>
              <p:nvPr/>
            </p:nvSpPr>
            <p:spPr>
              <a:xfrm>
                <a:off x="6664320" y="26179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29" name="Picture 4" descr=""/>
          <p:cNvPicPr/>
          <p:nvPr/>
        </p:nvPicPr>
        <p:blipFill>
          <a:blip r:embed="rId1"/>
          <a:srcRect l="1986" t="40925" r="90322" b="48819"/>
          <a:stretch/>
        </p:blipFill>
        <p:spPr>
          <a:xfrm>
            <a:off x="0" y="404640"/>
            <a:ext cx="1873080" cy="140508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5"/>
          <p:cNvSpPr/>
          <p:nvPr/>
        </p:nvSpPr>
        <p:spPr>
          <a:xfrm>
            <a:off x="324000" y="1700280"/>
            <a:ext cx="8316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f2936"/>
                </a:solidFill>
                <a:latin typeface="Arial"/>
              </a:rPr>
              <a:t>Найти вероятность того, что при подбрасывании двух монет на обеих монетах выпадут ре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Verdana"/>
              </a:rPr>
              <a:t>Решение, предложенное Даламбером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600" spc="-1" strike="noStrike">
                <a:solidFill>
                  <a:srgbClr val="0070c0"/>
                </a:solidFill>
                <a:latin typeface="Verdana"/>
              </a:rPr>
              <a:t>Опыт имеет три равновозможных исхода:</a:t>
            </a:r>
            <a:br>
              <a:rPr sz="2600"/>
            </a:br>
            <a:r>
              <a:rPr b="1" i="1" lang="ru-RU" sz="2600" spc="-1" strike="noStrike">
                <a:solidFill>
                  <a:srgbClr val="0070c0"/>
                </a:solidFill>
                <a:latin typeface="Verdana"/>
              </a:rPr>
              <a:t>1. обе монеты упали на «орла»;</a:t>
            </a:r>
            <a:br>
              <a:rPr sz="2600"/>
            </a:br>
            <a:r>
              <a:rPr b="1" i="1" lang="ru-RU" sz="2600" spc="-1" strike="noStrike">
                <a:solidFill>
                  <a:srgbClr val="0070c0"/>
                </a:solidFill>
                <a:latin typeface="Verdana"/>
              </a:rPr>
              <a:t>2. обе монеты упали на «решку»;</a:t>
            </a:r>
            <a:br>
              <a:rPr sz="2600"/>
            </a:br>
            <a:r>
              <a:rPr b="1" i="1" lang="ru-RU" sz="2600" spc="-1" strike="noStrike">
                <a:solidFill>
                  <a:srgbClr val="0070c0"/>
                </a:solidFill>
                <a:latin typeface="Verdana"/>
              </a:rPr>
              <a:t>3. одна из монет упала на «орла», другая на «решку».</a:t>
            </a:r>
            <a:br>
              <a:rPr sz="2600"/>
            </a:br>
            <a:r>
              <a:rPr b="1" i="1" lang="ru-RU" sz="2600" spc="-1" strike="noStrike">
                <a:solidFill>
                  <a:srgbClr val="0070c0"/>
                </a:solidFill>
                <a:latin typeface="Verdana"/>
              </a:rPr>
              <a:t>Из них благоприятными для нашего события будет один исход, поэтому искомая вероятность равна 1/3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2936"/>
                </a:solidFill>
                <a:latin typeface="Verdana"/>
              </a:rPr>
              <a:t>Достоверное событие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f2936"/>
                </a:solidFill>
                <a:latin typeface="Verdana"/>
              </a:rPr>
              <a:t>Событие, которое при проведении некоторого опыта происходит всегда, называется </a:t>
            </a:r>
            <a:r>
              <a:rPr b="1" i="1" lang="ru-RU" sz="2800" spc="-1" strike="noStrike">
                <a:solidFill>
                  <a:srgbClr val="cc0099"/>
                </a:solidFill>
                <a:latin typeface="Verdana"/>
              </a:rPr>
              <a:t>достоверным </a:t>
            </a:r>
            <a:r>
              <a:rPr b="1" i="1" lang="ru-RU" sz="2800" spc="-1" strike="noStrike">
                <a:solidFill>
                  <a:srgbClr val="9f2936"/>
                </a:solidFill>
                <a:latin typeface="Verdana"/>
              </a:rPr>
              <a:t>событие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23232"/>
                </a:solidFill>
                <a:latin typeface="Verdana"/>
              </a:rPr>
              <a:t>Пример: событие С: « при бросании кубика выпадет менее 7 очков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23232"/>
                </a:solidFill>
                <a:latin typeface="Verdana"/>
              </a:rPr>
              <a:t>Вероятность = 1, т.е. Р(С) =     =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6227640" y="4724280"/>
                <a:ext cx="3272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твечаем на вопросы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03280" y="571320"/>
            <a:ext cx="8640720" cy="5097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Verdana"/>
              </a:rPr>
              <a:t>Что изучает теория вероятностей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Verdana"/>
              </a:rPr>
              <a:t>Какое событие называется случайны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Verdana"/>
              </a:rPr>
              <a:t>Что такое абсолютная частота событи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Verdana"/>
              </a:rPr>
              <a:t>Что называют относительной частотой событи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Verdana"/>
              </a:rPr>
              <a:t>Что называют вероятностью случайного событи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2936"/>
                </a:solidFill>
                <a:latin typeface="Verdana"/>
              </a:rPr>
              <a:t>Невозможное событ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f2936"/>
                </a:solidFill>
                <a:latin typeface="Verdana"/>
              </a:rPr>
              <a:t>Событие, которое при проведении некоторого опыта не может произойти никогда, называется </a:t>
            </a:r>
            <a:r>
              <a:rPr b="1" i="1" lang="ru-RU" sz="3600" spc="-1" strike="noStrike">
                <a:solidFill>
                  <a:srgbClr val="cc0099"/>
                </a:solidFill>
                <a:latin typeface="Verdana"/>
              </a:rPr>
              <a:t>невозможным</a:t>
            </a:r>
            <a:r>
              <a:rPr b="1" i="1" lang="ru-RU" sz="3600" spc="-1" strike="noStrike">
                <a:solidFill>
                  <a:srgbClr val="9f2936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3232"/>
                </a:solidFill>
                <a:latin typeface="Verdana"/>
              </a:rPr>
              <a:t>Пример: событие К: « при бросании кубика выпадет 7 очков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3232"/>
                </a:solidFill>
                <a:latin typeface="Verdana"/>
              </a:rPr>
              <a:t>Вероятность равна 0, т.е. Р(К)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6483240" y="3665520"/>
                <a:ext cx="368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70c0"/>
                </a:solidFill>
                <a:latin typeface="Verdana"/>
              </a:rPr>
              <a:t>Теория вероятностей изучает </a:t>
            </a:r>
            <a:r>
              <a:rPr b="1" i="1" lang="ru-RU" sz="5000" spc="-1" strike="noStrike">
                <a:solidFill>
                  <a:srgbClr val="c00000"/>
                </a:solidFill>
                <a:latin typeface="Verdana"/>
              </a:rPr>
              <a:t>закономерности случайных </a:t>
            </a:r>
            <a:r>
              <a:rPr b="1" i="1" lang="ru-RU" sz="5000" spc="-1" strike="noStrike">
                <a:solidFill>
                  <a:srgbClr val="0070c0"/>
                </a:solidFill>
                <a:latin typeface="Verdana"/>
              </a:rPr>
              <a:t>событий.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2936"/>
                </a:solidFill>
                <a:latin typeface="Verdana"/>
              </a:rPr>
              <a:t>Случайное событие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f2936"/>
                </a:solidFill>
                <a:latin typeface="Verdana"/>
              </a:rPr>
              <a:t>Событие, которое может произойти, а может не произойти называется </a:t>
            </a:r>
            <a:r>
              <a:rPr b="1" i="1" lang="ru-RU" sz="3600" spc="-1" strike="noStrike">
                <a:solidFill>
                  <a:srgbClr val="cc0099"/>
                </a:solidFill>
                <a:latin typeface="Verdana"/>
              </a:rPr>
              <a:t>случайным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23232"/>
                </a:solidFill>
                <a:latin typeface="Verdana"/>
              </a:rPr>
              <a:t>Например, событие А: «ты получил сегодня 5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f2936"/>
                </a:solidFill>
                <a:latin typeface="Verdana"/>
              </a:rPr>
              <a:t>Абсолютная частота.</a:t>
            </a:r>
            <a:endParaRPr b="1" lang="en-US" sz="43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2936"/>
                </a:solidFill>
                <a:latin typeface="Verdana"/>
              </a:rPr>
              <a:t>Абсолютная частот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ывает, сколько раз в серии эксперимента наблюдалось данное событ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f2936"/>
                </a:solidFill>
                <a:latin typeface="Verdana"/>
              </a:rPr>
              <a:t>Например, игральный кубик бросали 100 раз и наблюдали событие: «сколько раз выпадет 6». Оказалось, что «6» выпала 9 раз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f2936"/>
                </a:solidFill>
                <a:latin typeface="Verdana"/>
              </a:rPr>
              <a:t>Число 9 – абсолютная частота данного событ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5" name="Group 11"/>
          <p:cNvGrpSpPr/>
          <p:nvPr/>
        </p:nvGrpSpPr>
        <p:grpSpPr>
          <a:xfrm>
            <a:off x="324000" y="404640"/>
            <a:ext cx="1079280" cy="1008360"/>
            <a:chOff x="324000" y="404640"/>
            <a:chExt cx="1079280" cy="1008360"/>
          </a:xfrm>
        </p:grpSpPr>
        <p:sp>
          <p:nvSpPr>
            <p:cNvPr id="276" name="AutoShape 4"/>
            <p:cNvSpPr/>
            <p:nvPr/>
          </p:nvSpPr>
          <p:spPr>
            <a:xfrm>
              <a:off x="324000" y="404640"/>
              <a:ext cx="1079280" cy="1008360"/>
            </a:xfrm>
            <a:prstGeom prst="cube">
              <a:avLst>
                <a:gd name="adj" fmla="val 25000"/>
              </a:avLst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5"/>
            <p:cNvSpPr/>
            <p:nvPr/>
          </p:nvSpPr>
          <p:spPr>
            <a:xfrm>
              <a:off x="611280" y="907920"/>
              <a:ext cx="215640" cy="21744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6"/>
            <p:cNvSpPr/>
            <p:nvPr/>
          </p:nvSpPr>
          <p:spPr>
            <a:xfrm>
              <a:off x="539640" y="476280"/>
              <a:ext cx="216000" cy="1443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7"/>
            <p:cNvSpPr/>
            <p:nvPr/>
          </p:nvSpPr>
          <p:spPr>
            <a:xfrm>
              <a:off x="900000" y="476280"/>
              <a:ext cx="142920" cy="1461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8"/>
            <p:cNvSpPr/>
            <p:nvPr/>
          </p:nvSpPr>
          <p:spPr>
            <a:xfrm>
              <a:off x="1258920" y="620640"/>
              <a:ext cx="73080" cy="1443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9"/>
            <p:cNvSpPr/>
            <p:nvPr/>
          </p:nvSpPr>
          <p:spPr>
            <a:xfrm>
              <a:off x="1187280" y="1052640"/>
              <a:ext cx="73080" cy="1443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0"/>
            <p:cNvSpPr/>
            <p:nvPr/>
          </p:nvSpPr>
          <p:spPr>
            <a:xfrm>
              <a:off x="1258920" y="836640"/>
              <a:ext cx="73080" cy="1443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2936"/>
                </a:solidFill>
                <a:latin typeface="Verdana"/>
              </a:rPr>
              <a:t>      </a:t>
            </a:r>
            <a:r>
              <a:rPr b="1" lang="ru-RU" sz="3600" spc="-1" strike="noStrike">
                <a:solidFill>
                  <a:srgbClr val="9f2936"/>
                </a:solidFill>
                <a:latin typeface="Verdana"/>
              </a:rPr>
              <a:t>Относительная част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Verdana"/>
              </a:rPr>
              <a:t>Относительной частот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лучайного события называется отношение числа испытаний, в которых это событие наступило, к числу  всех испыта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f2936"/>
                </a:solidFill>
                <a:latin typeface="Verdana"/>
              </a:rPr>
              <a:t>Например, для предыдущего примера, отношение числа 9 к числу всех событий 100, равное          называют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f2936"/>
                </a:solidFill>
                <a:latin typeface="Verdana"/>
              </a:rPr>
              <a:t>относительной частотой этого событ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4859280" y="4005360"/>
                <a:ext cx="5986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86" name="Group 6"/>
          <p:cNvGrpSpPr/>
          <p:nvPr/>
        </p:nvGrpSpPr>
        <p:grpSpPr>
          <a:xfrm>
            <a:off x="324000" y="404640"/>
            <a:ext cx="1079280" cy="1008360"/>
            <a:chOff x="324000" y="404640"/>
            <a:chExt cx="1079280" cy="1008360"/>
          </a:xfrm>
        </p:grpSpPr>
        <p:sp>
          <p:nvSpPr>
            <p:cNvPr id="287" name="AutoShape 7"/>
            <p:cNvSpPr/>
            <p:nvPr/>
          </p:nvSpPr>
          <p:spPr>
            <a:xfrm>
              <a:off x="324000" y="404640"/>
              <a:ext cx="1079280" cy="1008360"/>
            </a:xfrm>
            <a:prstGeom prst="cube">
              <a:avLst>
                <a:gd name="adj" fmla="val 25000"/>
              </a:avLst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8"/>
            <p:cNvSpPr/>
            <p:nvPr/>
          </p:nvSpPr>
          <p:spPr>
            <a:xfrm>
              <a:off x="611280" y="907920"/>
              <a:ext cx="215640" cy="21744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9"/>
            <p:cNvSpPr/>
            <p:nvPr/>
          </p:nvSpPr>
          <p:spPr>
            <a:xfrm>
              <a:off x="539640" y="476280"/>
              <a:ext cx="216000" cy="1443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0"/>
            <p:cNvSpPr/>
            <p:nvPr/>
          </p:nvSpPr>
          <p:spPr>
            <a:xfrm>
              <a:off x="900000" y="476280"/>
              <a:ext cx="142920" cy="1461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1"/>
            <p:cNvSpPr/>
            <p:nvPr/>
          </p:nvSpPr>
          <p:spPr>
            <a:xfrm>
              <a:off x="1258920" y="620640"/>
              <a:ext cx="73080" cy="1443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>
              <a:off x="1187280" y="1052640"/>
              <a:ext cx="73080" cy="1443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>
              <a:off x="1258920" y="836640"/>
              <a:ext cx="73080" cy="1443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2936"/>
                </a:solidFill>
                <a:latin typeface="Verdana"/>
              </a:rPr>
              <a:t>Статистическое определение вероятност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f2936"/>
                </a:solidFill>
                <a:latin typeface="Verdana"/>
              </a:rPr>
              <a:t>При большом количестве испытаний  относительная частота принимает достаточно устойчивое значе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2936"/>
                </a:solidFill>
                <a:latin typeface="Verdana"/>
              </a:rPr>
              <a:t>Это значение, около которого группируются наблюдаемые значения относительной частоты, принимается за вероятность случайного событ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Равновозможные исходы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70c0"/>
                </a:solidFill>
                <a:latin typeface="Verdana"/>
              </a:rPr>
              <a:t>Исходы  в определенном опыте или наблюдении считают </a:t>
            </a:r>
            <a:r>
              <a:rPr b="1" i="1" lang="ru-RU" sz="4100" spc="-1" strike="noStrike">
                <a:solidFill>
                  <a:srgbClr val="c00000"/>
                </a:solidFill>
                <a:latin typeface="Verdana"/>
              </a:rPr>
              <a:t>равновозможными</a:t>
            </a:r>
            <a:r>
              <a:rPr b="1" i="1" lang="ru-RU" sz="4100" spc="-1" strike="noStrike">
                <a:solidFill>
                  <a:srgbClr val="0070c0"/>
                </a:solidFill>
                <a:latin typeface="Verdana"/>
              </a:rPr>
              <a:t>, если шансы этих исходов </a:t>
            </a:r>
            <a:r>
              <a:rPr b="1" i="1" lang="ru-RU" sz="4100" spc="-1" strike="noStrike">
                <a:solidFill>
                  <a:srgbClr val="c00000"/>
                </a:solidFill>
                <a:latin typeface="Verdana"/>
              </a:rPr>
              <a:t>одинаковы</a:t>
            </a:r>
            <a:r>
              <a:rPr b="1" i="1" lang="ru-RU" sz="4100" spc="-1" strike="noStrike">
                <a:solidFill>
                  <a:srgbClr val="0070c0"/>
                </a:solidFill>
                <a:latin typeface="Verdana"/>
              </a:rPr>
              <a:t>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Verdana"/>
              </a:rPr>
              <a:t>Благоприятные </a:t>
            </a: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исход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Verdana"/>
              </a:rPr>
              <a:t>Исходы, при которых происходит некоторое событие, называют благоприятными исходами для этого события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18:30:02Z</dcterms:created>
  <dc:creator>Вован</dc:creator>
  <dc:description/>
  <dc:language>en-US</dc:language>
  <cp:lastModifiedBy>ПК</cp:lastModifiedBy>
  <dcterms:modified xsi:type="dcterms:W3CDTF">2022-06-29T15:43:17Z</dcterms:modified>
  <cp:revision>22</cp:revision>
  <dc:subject/>
  <dc:title>Слайд 1</dc:title>
</cp:coreProperties>
</file>